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8D1A-094C-4C72-A365-866D987C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7C4-4CC1-4EAE-AA6E-73FF47EB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CD28-4C5F-457E-8F45-528A01F2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0504-893B-44B1-B3DC-F4D692AA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97712-6497-43E0-A53B-7B8E83F9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DDFEC-4968-4325-85CA-EBB6B98E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1A235-656B-4C4D-B043-FEB180D5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B5DE5-6B94-446A-AA1A-7AADCD20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52B79-B912-4A4E-9BCC-786006B5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E78C8-7A9E-4599-BA70-ADF216DD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19A16-615B-470B-9658-15CB7B0B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CA1B-ADF1-4855-98E0-C546EF29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1A45E-2286-49F7-8B97-3685D08C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547D6-2F17-40E4-8324-661D7E94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49A65-D9C2-48D2-97D0-C2EB3A5F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83DCF-55EC-40FC-8875-22D3380B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742C2-B327-42F7-A07E-AEDD9E66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BA02-A0DC-4DA2-B0A3-447E31AC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3D76-5647-4721-8BEC-2200F77B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1BE-A774-4DFA-9FE0-9797778D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20CE-8F3A-45BB-A474-02191BF8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F39-6D0E-44BF-B787-3BBC292B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6B4C-E0E3-4036-BC29-AB9C070B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3E9-31F5-4E51-835D-FB1F3920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E6E3-FB1B-4342-AADD-2EE7F4DFBE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0F46-D0A3-437A-8D80-5F7BA4DE54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n_(subculture)" TargetMode="External"/><Relationship Id="rId2" Type="http://schemas.openxmlformats.org/officeDocument/2006/relationships/hyperlink" Target="http://en.wikipedia.org/wiki/Halbstarke" TargetMode="External"/><Relationship Id="rId3" Type="http://schemas.openxmlformats.org/officeDocument/2006/relationships/hyperlink" Target="http://www.trueknowledge.com/q/what_does_lan_mean_in_turkish" TargetMode="External"/><Relationship Id="rId4" Type="http://schemas.openxmlformats.org/officeDocument/2006/relationships/hyperlink" Target="http://en.wikipedia.org/wiki/Goth_girl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Jean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comic"/>
              </a:rPr>
              <a:t>Cultural diversity</a:t>
            </a:r>
            <a:r>
              <a:rPr b="0" lang="en-US" sz="4800" spc="-1" strike="noStrike">
                <a:solidFill>
                  <a:srgbClr val="00ffcc"/>
                </a:solidFill>
                <a:latin typeface="comic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comic"/>
              </a:rPr>
              <a:t>in German</a:t>
            </a:r>
            <a:r>
              <a:rPr b="0" lang="en-US" sz="4800" spc="-1" strike="noStrike">
                <a:solidFill>
                  <a:srgbClr val="00ffcc"/>
                </a:solidFill>
                <a:latin typeface="comic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comic"/>
              </a:rPr>
              <a:t>speaking countr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Garamond Pro Bold"/>
              </a:rPr>
              <a:t>Subcul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Garamond Pro Bold"/>
              </a:rPr>
              <a:t>By: Emily P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Garamond Pro Bold"/>
              </a:rPr>
              <a:t>Period: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i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en.wikipedia.org/wiki/Lan_(subcul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en.wikipedia.org/wiki/Halbstar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trueknowledge.com/q/what_does_lan_mean_in_turk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en.wikipedia.org/wiki/Goth_gi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lbstark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bstarke is a term describing a post-war subculture of adolescents-mostly male and of working class parents-that appeared in public in an aggressive and provocative way during the 1950’s in Germany, Austria, and Switzer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bstarke literally means “half strong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Halbstarke riots occurred after concerts or cinema screen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bstarke found prototypes for their fashion and style in American mov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, the Halbstarke wore a quiff,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ea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checked shirts and leather jacke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 subculture draws many similarities with pimp life-style of hip ho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an is characterized by his physical appearance (extravagant hair, beard styling, body building, and sunbed tan,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 means “buddy” in Turkis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s share many aesthetic characteristics with the British chav subcul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 came to mean "guy", "dude", etc. in German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ufti[e]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English, Grufti means “vault or tomb creatures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subculture of “goths” became popular during the early 1990’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oth subculture has associated tastes in music, aesthetics, and fash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ufti are the German “goths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hic music encompasses a number of different styles including Gothic Rock, Darkwave, Deathrock, Ethereal, Neo-Medieval and Neoclassic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lbstarke Pict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54240" y="1600200"/>
            <a:ext cx="4834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ufti[e] Pict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600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ufti[e] Picture Cont’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235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dobe Garamond Pro Bold"/>
              </a:rPr>
              <a:t>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What does “halbstarke”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What does Grufti[e]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dobe Garamond Pro Bold"/>
              </a:rPr>
              <a:t>Answ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Half-St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Vault or Tomb Cre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7:25:37Z</dcterms:created>
  <dc:creator>SCSadmin</dc:creator>
  <dc:description/>
  <dc:language>en-US</dc:language>
  <cp:lastModifiedBy>SCSadmin</cp:lastModifiedBy>
  <dcterms:modified xsi:type="dcterms:W3CDTF">2011-10-13T17:46:32Z</dcterms:modified>
  <cp:revision>10</cp:revision>
  <dc:subject/>
  <dc:title>Cultural diversity in German speaking countries</dc:title>
</cp:coreProperties>
</file>